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8.wmf" ContentType="image/x-wmf"/>
  <Override PartName="/ppt/media/image37.jpeg" ContentType="image/jpeg"/>
  <Override PartName="/ppt/media/image27.wmf" ContentType="image/x-wmf"/>
  <Override PartName="/ppt/media/image24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40.png" ContentType="image/png"/>
  <Override PartName="/ppt/media/image11.jpeg" ContentType="image/jpeg"/>
  <Override PartName="/ppt/media/image42.jpeg" ContentType="image/jpeg"/>
  <Override PartName="/ppt/media/image34.wmf" ContentType="image/x-wmf"/>
  <Override PartName="/ppt/media/image43.png" ContentType="image/png"/>
  <Override PartName="/ppt/media/image5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50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47.jpeg" ContentType="image/jpeg"/>
  <Override PartName="/ppt/media/image36.wmf" ContentType="image/x-wmf"/>
  <Override PartName="/ppt/media/image56.png" ContentType="image/png"/>
  <Override PartName="/ppt/media/image33.wmf" ContentType="image/x-wmf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0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55.gif" ContentType="image/gif"/>
  <Override PartName="/ppt/media/image23.wmf" ContentType="image/x-wmf"/>
  <Override PartName="/ppt/media/image5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5730-0C40-413E-A929-FCE3ABEFF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A000-24B8-4111-9302-224581202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AABE-2231-42AA-860F-966C84283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137-9D25-449B-A609-01B81599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C57-C87E-42AE-A10C-CA7B82B8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FF5-A0DA-482E-8E1E-F8816856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945-254A-4865-A7A7-C7CE668F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B59-0A26-404A-B468-2EF31590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5B76-7489-4132-8ACB-3FD1064F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AEAC-189A-4616-B1E8-71488A7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493E-18AC-4DD8-BBE9-B3335F7B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8C28-3DE0-4839-A2C1-4325F03D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6606-73F2-4C62-A108-2E144F28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7460-D0CB-4D9D-A0B4-7A30482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D1A-4FAB-411B-949B-6C03F689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9F78-9E79-49BB-915C-F9FCC36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9E24-C14F-4546-B82E-CDC6447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31CE-0D56-4A38-96AB-479FB164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0C54-BAF2-44D1-958A-E64471E9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2200-3295-4A2A-962A-FACCB6AD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2BB3-B46F-4985-BDCB-707A8C84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799A-F62D-42CD-8F88-F66DE090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6B7E4-4EF1-42A0-B220-5534ECFC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B2C7-A6EA-4F18-BB38-F44DAF2D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1923-3F28-4853-B318-C4666063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E35-D9AF-47DD-8874-99CCBBFB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962D-559F-4C84-8326-E9BEFDA3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B12D-69D9-4010-9500-2093E95C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B456-A32F-47AE-ADB9-393BB6C2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6C9E-F9C4-4B9F-8C2D-D4A910B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717D-025A-4AE5-84AB-E567C5B8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56C4-5340-4C8A-BA74-07C1312C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74C2-4301-4B71-818A-46D989E0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A0BE-1A5A-48B8-8AFE-3B7EE564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A412-18B7-43DA-97A4-EE019A68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5FDF5-B7D4-4157-B263-82D029FB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285-6AA5-44E6-9521-987B7000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C0B0-B1F0-4C52-9F0E-609A6E45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D5CC-553E-40B2-8F95-3A139BC2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E47A-7CE2-405E-A922-22BE680B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6B2B9-8AFF-43BA-947A-28FA939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74DB-7DE6-4E77-A0B5-940108D5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57DD-01A1-468F-B4FE-A6BB3144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09E9-4AD0-464D-9D76-C1EACCB5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BE24-4D07-4E4A-95D1-661DC10A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DCE0-0FCD-453B-A6BE-08799E52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DF95-0029-49A5-8578-7D97A119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90E-6393-4CD9-AD31-57292EEF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CDD85-76D1-49C9-9C65-65D1E4F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28B79-1B32-4D9A-AF79-E4D0F176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F408-0860-4261-9702-818E02A4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CC52-0A90-4BF0-91F6-66361D89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25CDE-0C80-4976-925C-05805FB5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6258-ECF3-45A4-91D9-A50C524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5DC79-F365-461D-BD7F-0C7A8A5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4EF3D-71BB-48E5-962B-A3FC6EC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62B1-3005-4EC6-8805-0FB93A07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BC19B-53ED-40DE-8A3B-8FD977F7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E15-C1EF-4A2E-B7C0-4FDC5C8C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8606-6E5F-45D2-868A-BB9580C2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4F46-6E3C-41D0-8831-8C904CC5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72A6A-675C-4AA7-9BF5-578D70E1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5333-FB2C-4354-8F97-9933C195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9A5D-4559-48FA-BB8E-236F2F82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686A8-BEB4-4119-A6A8-D457014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CD45-127E-4608-9363-6FA10B54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C78EF-9676-4A4B-B29A-08473F0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664A-D682-48D3-B670-CC154A52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3795A-DBA9-407D-913D-E7AA7D53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F8B-9188-4207-A35F-92CC81CF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FC7F4-714F-4BAC-8CED-93E81858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BA12-1BDD-4443-ADBB-0A7B42F2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738B0-4CA8-4AF7-B3A5-B2ED1759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78819-6881-49AE-8CCB-D501130F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9B36-89C1-4A78-A5D6-353633C7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72105-C90A-4214-BC2B-5730EAB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56114-1806-4377-B2B6-D64EAE10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E0BFE-787D-4997-8612-A01BC55F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FA989-EAA8-476E-959C-F3DBD4B0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9BC9A-3233-43C9-B630-AA25452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4A9-2AC2-4FFC-9297-67F2C1F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E9C1C-717E-43F6-9F0C-05F99B1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58C32-8C17-4D4D-9D8E-FD4A62C1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9021B-1B2C-44F7-BF38-FFEDEFD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F1FA-17BE-4EF0-A733-ED09CDA4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7FAF-9343-4E54-BAB3-97F149EF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345-27D9-4FE9-A133-C1DFDE0E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8ABF-35FF-483D-BEF0-33C7C7117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DE0B-233F-476B-BEB0-C0A93FFEE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nt"/>
          <p:cNvSpPr/>
          <p:nvPr/>
        </p:nvSpPr>
        <p:spPr>
          <a:xfrm>
            <a:off x="0" y="0"/>
            <a:ext cx="1558800" cy="1557360"/>
          </a:xfrm>
          <a:custGeom>
            <a:avLst/>
            <a:gdLst>
              <a:gd name="textAreaLeft" fmla="*/ 512280 w 1558800"/>
              <a:gd name="textAreaRight" fmla="*/ 1049760 w 1558800"/>
              <a:gd name="textAreaTop" fmla="*/ 727560 h 1557360"/>
              <a:gd name="textAreaBottom" fmla="*/ 978480 h 15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D9B3-C1A6-4D80-92BB-75F40B2AAED8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nt"/>
          <p:cNvSpPr/>
          <p:nvPr/>
        </p:nvSpPr>
        <p:spPr>
          <a:xfrm>
            <a:off x="-396720" y="-2430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009900">
                  <a:alpha val="50196"/>
                </a:srgbClr>
              </a:gs>
              <a:gs pos="50000">
                <a:srgbClr val="00ff00">
                  <a:alpha val="60392"/>
                </a:srgbClr>
              </a:gs>
              <a:gs pos="100000">
                <a:srgbClr val="009900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gradFill rotWithShape="0">
            <a:gsLst>
              <a:gs pos="0">
                <a:srgbClr val="009900">
                  <a:alpha val="50196"/>
                </a:srgbClr>
              </a:gs>
              <a:gs pos="50000">
                <a:srgbClr val="00ff00">
                  <a:alpha val="60392"/>
                </a:srgbClr>
              </a:gs>
              <a:gs pos="100000">
                <a:srgbClr val="009900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009900">
                  <a:alpha val="50196"/>
                </a:srgbClr>
              </a:gs>
              <a:gs pos="50000">
                <a:srgbClr val="00ff00">
                  <a:alpha val="60392"/>
                </a:srgbClr>
              </a:gs>
              <a:gs pos="100000">
                <a:srgbClr val="009900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6C2A-07E9-447D-AA97-2EE63D0FF80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9640" y="2349360"/>
            <a:ext cx="8134560" cy="14702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ff00">
                  <a:alpha val="4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403280" y="4102200"/>
            <a:ext cx="6400800" cy="1752480"/>
          </a:xfrm>
          <a:prstGeom prst="rect">
            <a:avLst/>
          </a:prstGeom>
          <a:blipFill rotWithShape="0">
            <a:blip r:embed="rId3">
              <a:alphaModFix amt="1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174-205F-401A-85B1-F04D0FEF0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nt"/>
          <p:cNvSpPr/>
          <p:nvPr/>
        </p:nvSpPr>
        <p:spPr>
          <a:xfrm>
            <a:off x="-396720" y="-243000"/>
            <a:ext cx="1809720" cy="1809720"/>
          </a:xfrm>
          <a:custGeom>
            <a:avLst/>
            <a:gdLst>
              <a:gd name="textAreaLeft" fmla="*/ 594720 w 1809720"/>
              <a:gd name="textAreaRight" fmla="*/ 1218600 w 180972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971640" y="6244920"/>
            <a:ext cx="20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203640" y="6244920"/>
            <a:ext cx="425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77310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91B7-468C-4B0A-A749-811A6E7C7E80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7"/>
          <p:cNvGrpSpPr/>
          <p:nvPr/>
        </p:nvGrpSpPr>
        <p:grpSpPr>
          <a:xfrm>
            <a:off x="-36360" y="2409840"/>
            <a:ext cx="1008000" cy="4447440"/>
            <a:chOff x="-36360" y="2409840"/>
            <a:chExt cx="1008000" cy="4447440"/>
          </a:xfrm>
        </p:grpSpPr>
        <p:grpSp>
          <p:nvGrpSpPr>
            <p:cNvPr id="214" name="Group 8"/>
            <p:cNvGrpSpPr/>
            <p:nvPr/>
          </p:nvGrpSpPr>
          <p:grpSpPr>
            <a:xfrm>
              <a:off x="-36360" y="3481200"/>
              <a:ext cx="1008000" cy="3376080"/>
              <a:chOff x="-36360" y="3481200"/>
              <a:chExt cx="1008000" cy="3376080"/>
            </a:xfrm>
          </p:grpSpPr>
          <p:pic>
            <p:nvPicPr>
              <p:cNvPr id="215" name="Picture 9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-3636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10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-3636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Picture 11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-3636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12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9" name="Picture 13" descr="266"/>
            <p:cNvPicPr/>
            <p:nvPr/>
          </p:nvPicPr>
          <p:blipFill>
            <a:blip r:embed="rId6"/>
            <a:stretch/>
          </p:blipFill>
          <p:spPr>
            <a:xfrm>
              <a:off x="-3636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0" y="0"/>
            <a:ext cx="1008000" cy="4447440"/>
            <a:chOff x="0" y="0"/>
            <a:chExt cx="1008000" cy="4447440"/>
          </a:xfrm>
        </p:grpSpPr>
        <p:grpSp>
          <p:nvGrpSpPr>
            <p:cNvPr id="221" name="Group 15"/>
            <p:cNvGrpSpPr/>
            <p:nvPr/>
          </p:nvGrpSpPr>
          <p:grpSpPr>
            <a:xfrm>
              <a:off x="0" y="1071360"/>
              <a:ext cx="1008000" cy="3376080"/>
              <a:chOff x="0" y="1071360"/>
              <a:chExt cx="1008000" cy="3376080"/>
            </a:xfrm>
          </p:grpSpPr>
          <p:pic>
            <p:nvPicPr>
              <p:cNvPr id="222" name="Picture 16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0" y="3330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17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0" y="184356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8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0" y="249804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19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0" y="1071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6" name="Picture 20" descr="266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232"/>
          <p:cNvPicPr/>
          <p:nvPr/>
        </p:nvPicPr>
        <p:blipFill>
          <a:blip r:embed="rId2"/>
          <a:stretch/>
        </p:blipFill>
        <p:spPr>
          <a:xfrm rot="16634400">
            <a:off x="6833880" y="2102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241B-B1A5-4663-AB3C-1D2EBE65FEFB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flowers.cveti-sadi.ru/kak-ustroen-cvetok/" TargetMode="External"/><Relationship Id="rId2" Type="http://schemas.openxmlformats.org/officeDocument/2006/relationships/hyperlink" Target="http://chebarkul.olx.ru/iid-184453798" TargetMode="External"/><Relationship Id="rId3" Type="http://schemas.openxmlformats.org/officeDocument/2006/relationships/hyperlink" Target="http://www.oninfo.ru/oboi_rabochego_stola/flowers/7779.html" TargetMode="External"/><Relationship Id="rId4" Type="http://schemas.openxmlformats.org/officeDocument/2006/relationships/hyperlink" Target="http://erokina.volsk-sch11.edusite.ru/p46aa1.html" TargetMode="External"/><Relationship Id="rId5" Type="http://schemas.openxmlformats.org/officeDocument/2006/relationships/hyperlink" Target="http://school.xvatit.com/index.php?title=&#1062;&#1074;&#1077;&#1090;&#1086;&#1082;" TargetMode="External"/><Relationship Id="rId6" Type="http://schemas.openxmlformats.org/officeDocument/2006/relationships/hyperlink" Target="http://fitoteka.rutxt.ru/node/539" TargetMode="External"/><Relationship Id="rId7" Type="http://schemas.openxmlformats.org/officeDocument/2006/relationships/hyperlink" Target="http://plants-about.ru/2010/09/page/4/" TargetMode="External"/><Relationship Id="rId8" Type="http://schemas.openxmlformats.org/officeDocument/2006/relationships/hyperlink" Target="http://www.agbina.com/site.xp/052057051124053054052.html" TargetMode="External"/><Relationship Id="rId9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4.wmf"/><Relationship Id="rId6" Type="http://schemas.openxmlformats.org/officeDocument/2006/relationships/image" Target="../media/image22.wmf"/><Relationship Id="rId7" Type="http://schemas.openxmlformats.org/officeDocument/2006/relationships/image" Target="../media/image29.wmf"/><Relationship Id="rId8" Type="http://schemas.openxmlformats.org/officeDocument/2006/relationships/image" Target="../media/image23.wmf"/><Relationship Id="rId9" Type="http://schemas.openxmlformats.org/officeDocument/2006/relationships/image" Target="../media/image30.wmf"/><Relationship Id="rId10" Type="http://schemas.openxmlformats.org/officeDocument/2006/relationships/image" Target="../media/image25.wmf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6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колоцветник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5" name="Picture 5" descr="47607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1484280"/>
            <a:ext cx="5184720" cy="39006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10"/>
          <p:cNvGrpSpPr/>
          <p:nvPr/>
        </p:nvGrpSpPr>
        <p:grpSpPr>
          <a:xfrm>
            <a:off x="2335320" y="5533920"/>
            <a:ext cx="4568400" cy="465120"/>
            <a:chOff x="2335320" y="5533920"/>
            <a:chExt cx="4568400" cy="465120"/>
          </a:xfrm>
        </p:grpSpPr>
        <p:sp>
          <p:nvSpPr>
            <p:cNvPr id="387" name="AutoShape 8"/>
            <p:cNvSpPr/>
            <p:nvPr/>
          </p:nvSpPr>
          <p:spPr>
            <a:xfrm>
              <a:off x="2431800" y="5568840"/>
              <a:ext cx="4471920" cy="43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6"/>
            <p:cNvSpPr/>
            <p:nvPr/>
          </p:nvSpPr>
          <p:spPr>
            <a:xfrm>
              <a:off x="2335320" y="5533920"/>
              <a:ext cx="404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Совокупность чашелисти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1"/>
          <p:cNvGrpSpPr/>
          <p:nvPr/>
        </p:nvGrpSpPr>
        <p:grpSpPr>
          <a:xfrm>
            <a:off x="2235240" y="6093000"/>
            <a:ext cx="4903560" cy="504720"/>
            <a:chOff x="2235240" y="6093000"/>
            <a:chExt cx="4903560" cy="504720"/>
          </a:xfrm>
        </p:grpSpPr>
        <p:sp>
          <p:nvSpPr>
            <p:cNvPr id="390" name="AutoShape 9"/>
            <p:cNvSpPr/>
            <p:nvPr/>
          </p:nvSpPr>
          <p:spPr>
            <a:xfrm>
              <a:off x="2648160" y="6093000"/>
              <a:ext cx="4490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7"/>
            <p:cNvSpPr/>
            <p:nvPr/>
          </p:nvSpPr>
          <p:spPr>
            <a:xfrm>
              <a:off x="2235240" y="6183360"/>
              <a:ext cx="48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.Совокупность лепест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AutoShape 8"/>
          <p:cNvSpPr/>
          <p:nvPr/>
        </p:nvSpPr>
        <p:spPr>
          <a:xfrm>
            <a:off x="3924360" y="2060640"/>
            <a:ext cx="287280" cy="25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 rot="10800000">
            <a:off x="6804000" y="1699920"/>
            <a:ext cx="432000" cy="33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2419200" y="3141720"/>
            <a:ext cx="142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ше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7655040" y="3159000"/>
            <a:ext cx="1183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7451640" y="5533920"/>
            <a:ext cx="1368360" cy="774720"/>
          </a:xfrm>
          <a:prstGeom prst="leftArrow">
            <a:avLst>
              <a:gd name="adj1" fmla="val 50000"/>
              <a:gd name="adj2" fmla="val 4415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4" descr="простой"/>
          <p:cNvPicPr/>
          <p:nvPr/>
        </p:nvPicPr>
        <p:blipFill>
          <a:blip r:embed="rId1"/>
          <a:stretch/>
        </p:blipFill>
        <p:spPr>
          <a:xfrm>
            <a:off x="5329080" y="3429000"/>
            <a:ext cx="3059280" cy="27352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иды околоцветников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9" name="Picture 19" descr="двойной"/>
          <p:cNvPicPr/>
          <p:nvPr/>
        </p:nvPicPr>
        <p:blipFill>
          <a:blip r:embed="rId2"/>
          <a:stretch/>
        </p:blipFill>
        <p:spPr>
          <a:xfrm>
            <a:off x="1092240" y="3429000"/>
            <a:ext cx="2975040" cy="2757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0" descr="цветок"/>
          <p:cNvPicPr/>
          <p:nvPr/>
        </p:nvPicPr>
        <p:blipFill>
          <a:blip r:embed="rId3"/>
          <a:stretch/>
        </p:blipFill>
        <p:spPr>
          <a:xfrm>
            <a:off x="1116000" y="3429000"/>
            <a:ext cx="3048120" cy="2808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1" descr="прямоуг1"/>
          <p:cNvPicPr/>
          <p:nvPr/>
        </p:nvPicPr>
        <p:blipFill>
          <a:blip r:embed="rId4"/>
          <a:stretch/>
        </p:blipFill>
        <p:spPr>
          <a:xfrm>
            <a:off x="1093680" y="3430440"/>
            <a:ext cx="3046680" cy="28069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43"/>
          <p:cNvGrpSpPr/>
          <p:nvPr/>
        </p:nvGrpSpPr>
        <p:grpSpPr>
          <a:xfrm>
            <a:off x="5329080" y="3429000"/>
            <a:ext cx="3025800" cy="2735280"/>
            <a:chOff x="5329080" y="3429000"/>
            <a:chExt cx="3025800" cy="2735280"/>
          </a:xfrm>
        </p:grpSpPr>
        <p:sp>
          <p:nvSpPr>
            <p:cNvPr id="403" name="Freeform 30"/>
            <p:cNvSpPr/>
            <p:nvPr/>
          </p:nvSpPr>
          <p:spPr>
            <a:xfrm>
              <a:off x="5329080" y="3429000"/>
              <a:ext cx="3025800" cy="2735280"/>
            </a:xfrm>
            <a:custGeom>
              <a:avLst/>
              <a:gdLst>
                <a:gd name="textAreaLeft" fmla="*/ 0 w 3025800"/>
                <a:gd name="textAreaRight" fmla="*/ 3026160 w 3025800"/>
                <a:gd name="textAreaTop" fmla="*/ 0 h 2735280"/>
                <a:gd name="textAreaBottom" fmla="*/ 2735640 h 2735280"/>
              </a:gdLst>
              <a:ahLst/>
              <a:rect l="textAreaLeft" t="textAreaTop" r="textAreaRight" b="textAreaBottom"/>
              <a:pathLst>
                <a:path w="15884" h="14358">
                  <a:moveTo>
                    <a:pt x="2394" y="0"/>
                  </a:moveTo>
                  <a:cubicBezTo>
                    <a:pt x="1072" y="0"/>
                    <a:pt x="0" y="1072"/>
                    <a:pt x="0" y="2393"/>
                  </a:cubicBezTo>
                  <a:lnTo>
                    <a:pt x="0" y="11965"/>
                  </a:lnTo>
                  <a:cubicBezTo>
                    <a:pt x="0" y="13287"/>
                    <a:pt x="1072" y="14358"/>
                    <a:pt x="2394" y="14358"/>
                  </a:cubicBezTo>
                  <a:lnTo>
                    <a:pt x="13491" y="14358"/>
                  </a:lnTo>
                  <a:cubicBezTo>
                    <a:pt x="14812" y="14358"/>
                    <a:pt x="15884" y="13287"/>
                    <a:pt x="15884" y="11965"/>
                  </a:cubicBezTo>
                  <a:lnTo>
                    <a:pt x="15884" y="2393"/>
                  </a:lnTo>
                  <a:cubicBezTo>
                    <a:pt x="15884" y="1072"/>
                    <a:pt x="14812" y="0"/>
                    <a:pt x="13491" y="0"/>
                  </a:cubicBezTo>
                  <a:lnTo>
                    <a:pt x="2394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Picture 42" descr="тюльпан2"/>
            <p:cNvPicPr/>
            <p:nvPr/>
          </p:nvPicPr>
          <p:blipFill>
            <a:blip r:embed="rId5"/>
            <a:stretch/>
          </p:blipFill>
          <p:spPr>
            <a:xfrm>
              <a:off x="5904000" y="3500640"/>
              <a:ext cx="1923840" cy="254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5" name="Picture 26" descr="прямоуг1"/>
          <p:cNvPicPr/>
          <p:nvPr/>
        </p:nvPicPr>
        <p:blipFill>
          <a:blip r:embed="rId6"/>
          <a:stretch/>
        </p:blipFill>
        <p:spPr>
          <a:xfrm>
            <a:off x="5364000" y="3429000"/>
            <a:ext cx="3046680" cy="273672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47"/>
          <p:cNvGrpSpPr/>
          <p:nvPr/>
        </p:nvGrpSpPr>
        <p:grpSpPr>
          <a:xfrm>
            <a:off x="2987640" y="1628640"/>
            <a:ext cx="3384720" cy="914400"/>
            <a:chOff x="2987640" y="1628640"/>
            <a:chExt cx="3384720" cy="914400"/>
          </a:xfrm>
        </p:grpSpPr>
        <p:sp>
          <p:nvSpPr>
            <p:cNvPr id="407" name="AutoShape 46"/>
            <p:cNvSpPr/>
            <p:nvPr/>
          </p:nvSpPr>
          <p:spPr>
            <a:xfrm>
              <a:off x="2987640" y="1628640"/>
              <a:ext cx="338472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5"/>
            <p:cNvSpPr/>
            <p:nvPr/>
          </p:nvSpPr>
          <p:spPr>
            <a:xfrm>
              <a:off x="3111120" y="1763640"/>
              <a:ext cx="308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колоцветн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Line 48"/>
          <p:cNvSpPr/>
          <p:nvPr/>
        </p:nvSpPr>
        <p:spPr>
          <a:xfrm flipH="1">
            <a:off x="2556000" y="2492280"/>
            <a:ext cx="4334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9"/>
          <p:cNvSpPr/>
          <p:nvPr/>
        </p:nvSpPr>
        <p:spPr>
          <a:xfrm>
            <a:off x="6372360" y="2565360"/>
            <a:ext cx="50472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0"/>
          <p:cNvSpPr/>
          <p:nvPr/>
        </p:nvSpPr>
        <p:spPr>
          <a:xfrm>
            <a:off x="1916280" y="6308640"/>
            <a:ext cx="1179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1"/>
          <p:cNvSpPr/>
          <p:nvPr/>
        </p:nvSpPr>
        <p:spPr>
          <a:xfrm>
            <a:off x="6071400" y="6256440"/>
            <a:ext cx="14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иды цветков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14" name="Group 7"/>
          <p:cNvGrpSpPr/>
          <p:nvPr/>
        </p:nvGrpSpPr>
        <p:grpSpPr>
          <a:xfrm>
            <a:off x="3924360" y="1557360"/>
            <a:ext cx="1439640" cy="647640"/>
            <a:chOff x="3924360" y="1557360"/>
            <a:chExt cx="1439640" cy="647640"/>
          </a:xfrm>
        </p:grpSpPr>
        <p:sp>
          <p:nvSpPr>
            <p:cNvPr id="415" name="AutoShape 6"/>
            <p:cNvSpPr/>
            <p:nvPr/>
          </p:nvSpPr>
          <p:spPr>
            <a:xfrm>
              <a:off x="3924360" y="1557360"/>
              <a:ext cx="143964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5"/>
            <p:cNvSpPr/>
            <p:nvPr/>
          </p:nvSpPr>
          <p:spPr>
            <a:xfrm>
              <a:off x="4048920" y="164772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в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1"/>
          <p:cNvGrpSpPr/>
          <p:nvPr/>
        </p:nvGrpSpPr>
        <p:grpSpPr>
          <a:xfrm>
            <a:off x="1042920" y="2205000"/>
            <a:ext cx="2376720" cy="649440"/>
            <a:chOff x="1042920" y="2205000"/>
            <a:chExt cx="2376720" cy="649440"/>
          </a:xfrm>
        </p:grpSpPr>
        <p:sp>
          <p:nvSpPr>
            <p:cNvPr id="418" name="AutoShape 9"/>
            <p:cNvSpPr/>
            <p:nvPr/>
          </p:nvSpPr>
          <p:spPr>
            <a:xfrm>
              <a:off x="1042920" y="2205000"/>
              <a:ext cx="2376720" cy="6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8"/>
            <p:cNvSpPr/>
            <p:nvPr/>
          </p:nvSpPr>
          <p:spPr>
            <a:xfrm>
              <a:off x="1312920" y="229716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оепо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10"/>
          <p:cNvSpPr/>
          <p:nvPr/>
        </p:nvSpPr>
        <p:spPr>
          <a:xfrm>
            <a:off x="5940360" y="2133720"/>
            <a:ext cx="2519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ьнопо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3" descr="3_08-5"/>
          <p:cNvPicPr/>
          <p:nvPr/>
        </p:nvPicPr>
        <p:blipFill>
          <a:blip r:embed="rId1"/>
          <a:stretch/>
        </p:blipFill>
        <p:spPr>
          <a:xfrm>
            <a:off x="3635280" y="3068640"/>
            <a:ext cx="5329440" cy="333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Line 14"/>
          <p:cNvSpPr/>
          <p:nvPr/>
        </p:nvSpPr>
        <p:spPr>
          <a:xfrm flipH="1">
            <a:off x="3347640" y="2133720"/>
            <a:ext cx="576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5"/>
          <p:cNvSpPr/>
          <p:nvPr/>
        </p:nvSpPr>
        <p:spPr>
          <a:xfrm>
            <a:off x="5364000" y="2133720"/>
            <a:ext cx="576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21"/>
          <p:cNvGrpSpPr/>
          <p:nvPr/>
        </p:nvGrpSpPr>
        <p:grpSpPr>
          <a:xfrm>
            <a:off x="4859280" y="5589720"/>
            <a:ext cx="432000" cy="647280"/>
            <a:chOff x="4859280" y="5589720"/>
            <a:chExt cx="432000" cy="647280"/>
          </a:xfrm>
        </p:grpSpPr>
        <p:sp>
          <p:nvSpPr>
            <p:cNvPr id="425" name="Oval 16"/>
            <p:cNvSpPr/>
            <p:nvPr/>
          </p:nvSpPr>
          <p:spPr>
            <a:xfrm>
              <a:off x="4859280" y="5589720"/>
              <a:ext cx="432000" cy="36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7"/>
            <p:cNvSpPr/>
            <p:nvPr/>
          </p:nvSpPr>
          <p:spPr>
            <a:xfrm>
              <a:off x="5075280" y="5949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22"/>
          <p:cNvGrpSpPr/>
          <p:nvPr/>
        </p:nvGrpSpPr>
        <p:grpSpPr>
          <a:xfrm>
            <a:off x="7308720" y="5589720"/>
            <a:ext cx="432000" cy="720720"/>
            <a:chOff x="7308720" y="5589720"/>
            <a:chExt cx="432000" cy="720720"/>
          </a:xfrm>
        </p:grpSpPr>
        <p:sp>
          <p:nvSpPr>
            <p:cNvPr id="428" name="Oval 18"/>
            <p:cNvSpPr/>
            <p:nvPr/>
          </p:nvSpPr>
          <p:spPr>
            <a:xfrm flipV="1">
              <a:off x="7308720" y="5589720"/>
              <a:ext cx="432000" cy="43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7524720" y="602172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0"/>
            <p:cNvSpPr/>
            <p:nvPr/>
          </p:nvSpPr>
          <p:spPr>
            <a:xfrm>
              <a:off x="7451640" y="616608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30" descr="0_a9de_3a314744_XL"/>
          <p:cNvPicPr/>
          <p:nvPr/>
        </p:nvPicPr>
        <p:blipFill>
          <a:blip r:embed="rId2"/>
          <a:stretch/>
        </p:blipFill>
        <p:spPr>
          <a:xfrm>
            <a:off x="826920" y="3213000"/>
            <a:ext cx="2737080" cy="20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Text Box 31"/>
          <p:cNvSpPr/>
          <p:nvPr/>
        </p:nvSpPr>
        <p:spPr>
          <a:xfrm>
            <a:off x="5423400" y="6346800"/>
            <a:ext cx="2367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 двудом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2"/>
          <p:cNvSpPr/>
          <p:nvPr/>
        </p:nvSpPr>
        <p:spPr>
          <a:xfrm>
            <a:off x="1534320" y="5319720"/>
            <a:ext cx="113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38"/>
          <p:cNvGrpSpPr/>
          <p:nvPr/>
        </p:nvGrpSpPr>
        <p:grpSpPr>
          <a:xfrm>
            <a:off x="826920" y="5157720"/>
            <a:ext cx="574560" cy="981000"/>
            <a:chOff x="826920" y="5157720"/>
            <a:chExt cx="574560" cy="981000"/>
          </a:xfrm>
        </p:grpSpPr>
        <p:grpSp>
          <p:nvGrpSpPr>
            <p:cNvPr id="435" name="Group 33"/>
            <p:cNvGrpSpPr/>
            <p:nvPr/>
          </p:nvGrpSpPr>
          <p:grpSpPr>
            <a:xfrm>
              <a:off x="826920" y="5418000"/>
              <a:ext cx="431640" cy="720720"/>
              <a:chOff x="826920" y="5418000"/>
              <a:chExt cx="431640" cy="720720"/>
            </a:xfrm>
          </p:grpSpPr>
          <p:sp>
            <p:nvSpPr>
              <p:cNvPr id="436" name="Oval 34"/>
              <p:cNvSpPr/>
              <p:nvPr/>
            </p:nvSpPr>
            <p:spPr>
              <a:xfrm flipV="1">
                <a:off x="826920" y="5418000"/>
                <a:ext cx="431640" cy="4320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1042560" y="5850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969480" y="5994360"/>
                <a:ext cx="14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37"/>
            <p:cNvSpPr/>
            <p:nvPr/>
          </p:nvSpPr>
          <p:spPr>
            <a:xfrm flipV="1">
              <a:off x="1185840" y="5157720"/>
              <a:ext cx="21564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днодомные и двудомные растен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Rectangle 1"/>
          <p:cNvSpPr/>
          <p:nvPr/>
        </p:nvSpPr>
        <p:spPr>
          <a:xfrm>
            <a:off x="826920" y="192852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тения, у которых раздельнополые цветки (тычиночные и пестичные) находятся на одном растении, называют однодом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826920" y="37944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Times New Roman"/>
              </a:rPr>
              <a:t>Растения, у которых тычиночные цветки расположены на одном растении, а пестичные на другом – называются двудом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9" descr="domik86"/>
          <p:cNvPicPr/>
          <p:nvPr/>
        </p:nvPicPr>
        <p:blipFill>
          <a:blip r:embed="rId1"/>
          <a:stretch/>
        </p:blipFill>
        <p:spPr>
          <a:xfrm>
            <a:off x="1187280" y="1484280"/>
            <a:ext cx="1857600" cy="1623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0" descr="domik86"/>
          <p:cNvPicPr/>
          <p:nvPr/>
        </p:nvPicPr>
        <p:blipFill>
          <a:blip r:embed="rId2"/>
          <a:stretch/>
        </p:blipFill>
        <p:spPr>
          <a:xfrm>
            <a:off x="5508720" y="1700280"/>
            <a:ext cx="1857240" cy="16239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Однодомные и двудомные растен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1116000" y="2421000"/>
            <a:ext cx="431640" cy="720720"/>
            <a:chOff x="1116000" y="2421000"/>
            <a:chExt cx="431640" cy="720720"/>
          </a:xfrm>
        </p:grpSpPr>
        <p:sp>
          <p:nvSpPr>
            <p:cNvPr id="447" name="Oval 6"/>
            <p:cNvSpPr/>
            <p:nvPr/>
          </p:nvSpPr>
          <p:spPr>
            <a:xfrm flipV="1">
              <a:off x="1116000" y="2421000"/>
              <a:ext cx="431640" cy="43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1331640" y="28530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8"/>
            <p:cNvSpPr/>
            <p:nvPr/>
          </p:nvSpPr>
          <p:spPr>
            <a:xfrm>
              <a:off x="1258560" y="29973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9"/>
          <p:cNvGrpSpPr/>
          <p:nvPr/>
        </p:nvGrpSpPr>
        <p:grpSpPr>
          <a:xfrm>
            <a:off x="1476360" y="2565360"/>
            <a:ext cx="431640" cy="647280"/>
            <a:chOff x="1476360" y="2565360"/>
            <a:chExt cx="431640" cy="647280"/>
          </a:xfrm>
        </p:grpSpPr>
        <p:sp>
          <p:nvSpPr>
            <p:cNvPr id="451" name="Oval 10"/>
            <p:cNvSpPr/>
            <p:nvPr/>
          </p:nvSpPr>
          <p:spPr>
            <a:xfrm>
              <a:off x="1476360" y="2565360"/>
              <a:ext cx="431640" cy="36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1"/>
            <p:cNvSpPr/>
            <p:nvPr/>
          </p:nvSpPr>
          <p:spPr>
            <a:xfrm>
              <a:off x="1692000" y="29253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12"/>
          <p:cNvGrpSpPr/>
          <p:nvPr/>
        </p:nvGrpSpPr>
        <p:grpSpPr>
          <a:xfrm>
            <a:off x="5651640" y="2492280"/>
            <a:ext cx="431640" cy="720720"/>
            <a:chOff x="5651640" y="2492280"/>
            <a:chExt cx="431640" cy="720720"/>
          </a:xfrm>
        </p:grpSpPr>
        <p:sp>
          <p:nvSpPr>
            <p:cNvPr id="454" name="Oval 13"/>
            <p:cNvSpPr/>
            <p:nvPr/>
          </p:nvSpPr>
          <p:spPr>
            <a:xfrm flipV="1">
              <a:off x="5651640" y="2492280"/>
              <a:ext cx="431640" cy="43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4"/>
            <p:cNvSpPr/>
            <p:nvPr/>
          </p:nvSpPr>
          <p:spPr>
            <a:xfrm>
              <a:off x="5867280" y="29242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5794200" y="30686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1" descr="domik86"/>
          <p:cNvPicPr/>
          <p:nvPr/>
        </p:nvPicPr>
        <p:blipFill>
          <a:blip r:embed="rId3"/>
          <a:stretch/>
        </p:blipFill>
        <p:spPr>
          <a:xfrm>
            <a:off x="6877080" y="1628640"/>
            <a:ext cx="1857240" cy="16243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6"/>
          <p:cNvGrpSpPr/>
          <p:nvPr/>
        </p:nvGrpSpPr>
        <p:grpSpPr>
          <a:xfrm>
            <a:off x="8459640" y="2492280"/>
            <a:ext cx="432000" cy="647280"/>
            <a:chOff x="8459640" y="2492280"/>
            <a:chExt cx="432000" cy="647280"/>
          </a:xfrm>
        </p:grpSpPr>
        <p:sp>
          <p:nvSpPr>
            <p:cNvPr id="459" name="Oval 17"/>
            <p:cNvSpPr/>
            <p:nvPr/>
          </p:nvSpPr>
          <p:spPr>
            <a:xfrm>
              <a:off x="8459640" y="2492280"/>
              <a:ext cx="432000" cy="36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8"/>
            <p:cNvSpPr/>
            <p:nvPr/>
          </p:nvSpPr>
          <p:spPr>
            <a:xfrm>
              <a:off x="8675640" y="285228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22"/>
          <p:cNvSpPr/>
          <p:nvPr/>
        </p:nvSpPr>
        <p:spPr>
          <a:xfrm>
            <a:off x="977400" y="5734080"/>
            <a:ext cx="168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укур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4500720" y="5229360"/>
            <a:ext cx="1582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2922480" y="6093000"/>
            <a:ext cx="96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2778840" y="5516640"/>
            <a:ext cx="1617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5207040" y="6040440"/>
            <a:ext cx="98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6994440" y="5824440"/>
            <a:ext cx="1460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Топ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7126200" y="6381720"/>
            <a:ext cx="154152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4798E-006 L 0.03333 -0.31722 E">
                                      <p:cBhvr>
                                        <p:cTn id="34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4.73988E-006 L 0.18108 -0.20971 E">
                                      <p:cBhvr>
                                        <p:cTn id="346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79769E-006 L 0.36232 -0.2726 E">
                                      <p:cBhvr>
                                        <p:cTn id="348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6358E-006 L -0.35434 -0.03399 E">
                                      <p:cBhvr>
                                        <p:cTn id="350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3064E-006 L -0.17344 -0.23075 E">
                                      <p:cBhvr>
                                        <p:cTn id="35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Рисунок 2" descr="G:\Урок Блиновойт Е.А\цветы для урока\вишня.jpg"/>
          <p:cNvPicPr/>
          <p:nvPr/>
        </p:nvPicPr>
        <p:blipFill>
          <a:blip r:embed="rId1"/>
          <a:stretch/>
        </p:blipFill>
        <p:spPr>
          <a:xfrm>
            <a:off x="1042920" y="1700280"/>
            <a:ext cx="3960720" cy="292896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3" descr="G:\Урок Блиновойт Е.А\цветы для урока\вишня1.jpeg"/>
          <p:cNvPicPr/>
          <p:nvPr/>
        </p:nvPicPr>
        <p:blipFill>
          <a:blip r:embed="rId2"/>
          <a:stretch/>
        </p:blipFill>
        <p:spPr>
          <a:xfrm>
            <a:off x="4788000" y="3357720"/>
            <a:ext cx="4105080" cy="302400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7" descr="http://festival.1september.ru/articles/660329/Image4518.gif"/>
          <p:cNvPicPr/>
          <p:nvPr/>
        </p:nvPicPr>
        <p:blipFill>
          <a:blip r:embed="rId3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471" name="Рисунок 7" descr="http://festival.1september.ru/articles/660329/Image4518.gif"/>
          <p:cNvPicPr/>
          <p:nvPr/>
        </p:nvPicPr>
        <p:blipFill>
          <a:blip r:embed="rId4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7" descr="http://festival.1september.ru/articles/660329/Image4518.gif"/>
          <p:cNvPicPr/>
          <p:nvPr/>
        </p:nvPicPr>
        <p:blipFill>
          <a:blip r:embed="rId5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9"/>
          <p:cNvSpPr/>
          <p:nvPr/>
        </p:nvSpPr>
        <p:spPr>
          <a:xfrm>
            <a:off x="5435640" y="1895760"/>
            <a:ext cx="93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Рисунок 7" descr="http://festival.1september.ru/articles/660329/Image4518.gif"/>
          <p:cNvPicPr/>
          <p:nvPr/>
        </p:nvPicPr>
        <p:blipFill>
          <a:blip r:embed="rId6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7" descr="http://festival.1september.ru/articles/660329/Image4518.gif"/>
          <p:cNvPicPr/>
          <p:nvPr/>
        </p:nvPicPr>
        <p:blipFill>
          <a:blip r:embed="rId7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9308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троение цветка вишн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7" name="Рисунок 7" descr="http://festival.1september.ru/articles/660329/Image4518.gif"/>
          <p:cNvPicPr/>
          <p:nvPr/>
        </p:nvPicPr>
        <p:blipFill>
          <a:blip r:embed="rId8"/>
          <a:stretch/>
        </p:blipFill>
        <p:spPr>
          <a:xfrm>
            <a:off x="0" y="457200"/>
            <a:ext cx="76320" cy="3816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13"/>
          <p:cNvSpPr/>
          <p:nvPr/>
        </p:nvSpPr>
        <p:spPr>
          <a:xfrm>
            <a:off x="0" y="331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оцвет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4572000" y="3716280"/>
            <a:ext cx="4392720" cy="3141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8388360" y="3933720"/>
            <a:ext cx="324000" cy="405000"/>
          </a:xfrm>
          <a:custGeom>
            <a:avLst/>
            <a:gdLst>
              <a:gd name="textAreaLeft" fmla="*/ 73800 w 324000"/>
              <a:gd name="textAreaRight" fmla="*/ 250200 w 3240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c1"/>
          <p:cNvPicPr/>
          <p:nvPr/>
        </p:nvPicPr>
        <p:blipFill>
          <a:blip r:embed="rId1"/>
          <a:stretch/>
        </p:blipFill>
        <p:spPr>
          <a:xfrm>
            <a:off x="1332000" y="1512720"/>
            <a:ext cx="6850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51445E-007 C -0.00781 -0.0289 -0.00017 0.00139 -0.0033 -0.0763 C -0.00399 -0.09433 -0.02048 -0.12393 -0.03021 -0.13757 C -0.03351 -0.15098 -0.04236 -0.16254 -0.0493 -0.17341 C -0.05104 -0.17618 -0.05173 -0.17988 -0.05399 -0.18196 C -0.0592 -0.18659 -0.06337 -0.18474 -0.0684 -0.18821 C -0.07413 -0.19214 -0.08003 -0.19329 -0.08576 -0.19676 C -0.10347 -0.2074 -0.09236 -0.20323 -0.10486 -0.20717 C -0.10868 -0.20994 -0.11198 -0.21364 -0.11597 -0.21572 C -0.12274 -0.21919 -0.13663 -0.22428 -0.13663 -0.22428 C -0.14757 -0.23306 -0.15903 -0.23607 -0.17153 -0.23907 C -0.19323 -0.2504 -0.19965 -0.25156 -0.22396 -0.25387 C -0.2658 -0.25271 -0.28854 -0.26289 -0.32066 -0.24532 C -0.34392 -0.2326 -0.31076 -0.24878 -0.32864 -0.23676 C -0.33837 -0.23029 -0.35139 -0.22589 -0.36198 -0.22196 C -0.36614 -0.22034 -0.37048 -0.21919 -0.37465 -0.2178 C -0.37673 -0.21711 -0.38107 -0.21572 -0.38107 -0.21572 C -0.39097 -0.20208 -0.3993 -0.19098 -0.41285 -0.18404 C -0.41753 -0.18173 -0.42239 -0.17965 -0.42708 -0.17757 C -0.42864 -0.17688 -0.43177 -0.17549 -0.43177 -0.17549 C -0.43281 -0.1741 -0.43368 -0.17225 -0.43507 -0.17133 C -0.43646 -0.17017 -0.43854 -0.17086 -0.43976 -0.16925 C -0.44097 -0.16763 -0.44028 -0.16462 -0.44132 -0.16277 C -0.44392 -0.15861 -0.44792 -0.1563 -0.45087 -0.15237 C -0.45417 -0.14104 -0.45781 -0.13202 -0.46354 -0.12277 C -0.46857 -0.11445 -0.4651 -0.11144 -0.47309 -0.10797 C -0.4776 -0.08948 -0.48142 -0.07006 -0.4842 -0.05086 C -0.48368 -0.00994 -0.4842 0.03099 -0.48264 0.07168 C -0.48246 0.07422 -0.48021 0.07561 -0.47951 0.07815 C -0.47726 0.08694 -0.47847 0.09642 -0.47309 0.10359 C -0.46927 0.10867 -0.4651 0.11099 -0.46042 0.11399 C -0.45555 0.1207 -0.45139 0.1207 -0.44444 0.12255 C -0.44288 0.12393 -0.44097 0.12463 -0.43976 0.12671 C -0.43524 0.13457 -0.43976 0.13734 -0.43021 0.14151 C -0.42639 0.15191 -0.42621 0.15468 -0.41753 0.16278 C -0.41302 0.16694 -0.40694 0.16671 -0.40173 0.16902 C -0.38559 0.17619 -0.37118 0.17966 -0.35399 0.18382 C -0.34601 0.18567 -0.33802 0.18775 -0.33021 0.19006 C -0.31059 0.19607 -0.29201 0.20509 -0.27309 0.21341 C -0.22899 0.21203 -0.19601 0.20879 -0.15243 0.20717 C -0.14236 0.20023 -0.13177 0.19862 -0.12066 0.19653 C -0.11823 0.18289 -0.11649 0.18382 -0.10798 0.17526 C -0.09062 0.15792 -0.11423 0.17942 -0.1 0.16278 C -0.08993 0.15099 -0.07778 0.14382 -0.0684 0.13087 C -0.06232 0.10914 -0.04531 0.1096 -0.03021 0.10775 C -0.02917 0.10359 -0.02778 0.09942 -0.02708 0.09503 C -0.02604 0.08809 -0.02899 0.0763 -0.02396 0.07399 C -0.02239 0.0733 -0.0191 0.07168 -0.0191 0.07168 E">
                                      <p:cBhvr>
                                        <p:cTn id="358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предели тип соцвет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84" name="Picture 5" descr="ромашка"/>
          <p:cNvPicPr/>
          <p:nvPr/>
        </p:nvPicPr>
        <p:blipFill>
          <a:blip r:embed="rId1"/>
          <a:stretch/>
        </p:blipFill>
        <p:spPr>
          <a:xfrm>
            <a:off x="1116000" y="1557360"/>
            <a:ext cx="3095640" cy="28209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" descr="080718_64"/>
          <p:cNvPicPr/>
          <p:nvPr/>
        </p:nvPicPr>
        <p:blipFill>
          <a:blip r:embed="rId2"/>
          <a:stretch/>
        </p:blipFill>
        <p:spPr>
          <a:xfrm>
            <a:off x="4140360" y="2205000"/>
            <a:ext cx="2181240" cy="38880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1"/>
          <p:cNvSpPr/>
          <p:nvPr/>
        </p:nvSpPr>
        <p:spPr>
          <a:xfrm>
            <a:off x="1835280" y="43876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4211640" y="6021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дор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2" descr="F:\111.jpg"/>
          <p:cNvPicPr/>
          <p:nvPr/>
        </p:nvPicPr>
        <p:blipFill>
          <a:blip r:embed="rId3"/>
          <a:stretch/>
        </p:blipFill>
        <p:spPr>
          <a:xfrm>
            <a:off x="5810400" y="1557360"/>
            <a:ext cx="3082680" cy="27766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13"/>
          <p:cNvSpPr/>
          <p:nvPr/>
        </p:nvSpPr>
        <p:spPr>
          <a:xfrm>
            <a:off x="6804000" y="43876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Черём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Биологическая роль соцветий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3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Мелкие цветки более заметны для опылителей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бразуется большее количество плодов и семян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2" name="Picture 4" descr="23384_fc67c97e"/>
          <p:cNvPicPr/>
          <p:nvPr/>
        </p:nvPicPr>
        <p:blipFill>
          <a:blip r:embed="rId1"/>
          <a:stretch/>
        </p:blipFill>
        <p:spPr>
          <a:xfrm>
            <a:off x="3851280" y="3786120"/>
            <a:ext cx="3753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971640" y="476280"/>
            <a:ext cx="7921440" cy="56498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. Цветок развивается из цветочной (генеративной) почки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. Цветоножка , цветоложе , чашечка и венчик- наружная часть цветка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3. Тычинки и пестик – главные части цветка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4. После опыления и оплодотворения на месте завязи пестика развивается плод с семенами, поэтому цветок – орган семенного размножения растений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5. Цветок – видоизменённый побег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цветы обрезка.avi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77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958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астения Красной книги Тамбовской област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5" name="Picture 7" descr="kupalnica"/>
          <p:cNvPicPr/>
          <p:nvPr/>
        </p:nvPicPr>
        <p:blipFill>
          <a:blip r:embed="rId1"/>
          <a:stretch/>
        </p:blipFill>
        <p:spPr>
          <a:xfrm>
            <a:off x="900000" y="1197000"/>
            <a:ext cx="2664000" cy="28494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5"/>
          <p:cNvSpPr/>
          <p:nvPr/>
        </p:nvSpPr>
        <p:spPr>
          <a:xfrm>
            <a:off x="900000" y="393912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Купаль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европе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7" descr="adonis"/>
          <p:cNvPicPr/>
          <p:nvPr/>
        </p:nvPicPr>
        <p:blipFill>
          <a:blip r:embed="rId2"/>
          <a:stretch/>
        </p:blipFill>
        <p:spPr>
          <a:xfrm>
            <a:off x="6521400" y="1197000"/>
            <a:ext cx="2371680" cy="28083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6"/>
          <p:cNvSpPr/>
          <p:nvPr/>
        </p:nvSpPr>
        <p:spPr>
          <a:xfrm>
            <a:off x="6598440" y="3964680"/>
            <a:ext cx="166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Ветр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л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" descr="givokost"/>
          <p:cNvPicPr/>
          <p:nvPr/>
        </p:nvPicPr>
        <p:blipFill>
          <a:blip r:embed="rId3"/>
          <a:stretch/>
        </p:blipFill>
        <p:spPr>
          <a:xfrm>
            <a:off x="3564000" y="2421000"/>
            <a:ext cx="3041640" cy="28796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7"/>
          <p:cNvSpPr/>
          <p:nvPr/>
        </p:nvSpPr>
        <p:spPr>
          <a:xfrm>
            <a:off x="3995640" y="5303880"/>
            <a:ext cx="55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Живок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клин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Растения Красной книги Тамбовской област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2" name="Picture 7" descr="kovyl"/>
          <p:cNvPicPr/>
          <p:nvPr/>
        </p:nvPicPr>
        <p:blipFill>
          <a:blip r:embed="rId1"/>
          <a:stretch/>
        </p:blipFill>
        <p:spPr>
          <a:xfrm>
            <a:off x="971640" y="1557360"/>
            <a:ext cx="2881080" cy="309384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"/>
          <p:cNvSpPr/>
          <p:nvPr/>
        </p:nvSpPr>
        <p:spPr>
          <a:xfrm>
            <a:off x="1187280" y="470628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Ковыль пер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7" descr="shpagnik"/>
          <p:cNvPicPr/>
          <p:nvPr/>
        </p:nvPicPr>
        <p:blipFill>
          <a:blip r:embed="rId2"/>
          <a:stretch/>
        </p:blipFill>
        <p:spPr>
          <a:xfrm>
            <a:off x="6012000" y="1484280"/>
            <a:ext cx="2808000" cy="31734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"/>
          <p:cNvSpPr/>
          <p:nvPr/>
        </p:nvSpPr>
        <p:spPr>
          <a:xfrm>
            <a:off x="6372360" y="47365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Шпажник тон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7" descr="rjabchik"/>
          <p:cNvPicPr/>
          <p:nvPr/>
        </p:nvPicPr>
        <p:blipFill>
          <a:blip r:embed="rId3"/>
          <a:stretch/>
        </p:blipFill>
        <p:spPr>
          <a:xfrm>
            <a:off x="3708360" y="2637000"/>
            <a:ext cx="2760840" cy="33130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3492360" y="596052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Рябчик шахмато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равила поведения в природ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9" name="Прямоугольник 2"/>
          <p:cNvSpPr/>
          <p:nvPr/>
        </p:nvSpPr>
        <p:spPr>
          <a:xfrm>
            <a:off x="1403280" y="1557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е ломайте ветки деревьев и кустарников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бирайте за собой мусор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Берегите почву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Берегите прекрасный мир растений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F:\Урок Блиновой Е.А\2.gif"/>
          <p:cNvPicPr/>
          <p:nvPr/>
        </p:nvPicPr>
        <p:blipFill>
          <a:blip r:embed="rId1"/>
          <a:stretch/>
        </p:blipFill>
        <p:spPr>
          <a:xfrm>
            <a:off x="5003640" y="4005360"/>
            <a:ext cx="2305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и одно или несколько предложений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1187280" y="1905480"/>
            <a:ext cx="795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годня я узнал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интерес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аучил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захоте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71640" y="48528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Источники иллюстраций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flowers.cveti-sadi.ru/kak-ustroen-cvetok/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chebarkul.olx.ru/iid-184453798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oninfo.ru/oboi_rabochego_stola/flowers/7779.html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http://erokina.volsk-sch11.edusite.ru/p46aa1.html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5"/>
              </a:rPr>
              <a:t>http://school.xvatit.com/index.php?title=Цветок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6"/>
              </a:rPr>
              <a:t>http://fitoteka.rutxt.ru/node/539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7"/>
              </a:rPr>
              <a:t>http://plants-about.ru/2010/09/page/4/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Garamond"/>
                <a:hlinkClick r:id="rId8"/>
              </a:rPr>
              <a:t>http://www.agbina.com/site.xp/052057051124053054052.htm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http://crimea.fotopage.ru/data/displayimage.php?pos=-498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http://bvi.rusf.ru/sista/s14331.htm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http://school.bakai.ru/?id=biofl010507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Источники иллюстраций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namonitore.ru/catalog/flowers/romashka_8.html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www.plantarium.ru/page/image/id/23384.html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4put.ru/pics/all_1/max_393585/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www.naturephoto.ru/Podorozhnik.htm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www.plantarium.ru/page/image/id/98143.htm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http://www.equator.ru/indonesia/sumatra/sumatra_2008_zametki_1.htm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http://www.aqa.ru/forum/vt36711p1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троение и функции цвет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се ли растения образуют цветки 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5" name="Picture 4" descr="F:\Урок Блиновой Е.А\сосна.jpg"/>
          <p:cNvPicPr/>
          <p:nvPr/>
        </p:nvPicPr>
        <p:blipFill>
          <a:blip r:embed="rId1"/>
          <a:stretch/>
        </p:blipFill>
        <p:spPr>
          <a:xfrm>
            <a:off x="971640" y="3716280"/>
            <a:ext cx="1441440" cy="180036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8"/>
          <p:cNvSpPr/>
          <p:nvPr/>
        </p:nvSpPr>
        <p:spPr>
          <a:xfrm>
            <a:off x="900000" y="4121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F:\Урок Блиновой Е.А\розы.jpg"/>
          <p:cNvPicPr/>
          <p:nvPr/>
        </p:nvPicPr>
        <p:blipFill>
          <a:blip r:embed="rId2"/>
          <a:stretch/>
        </p:blipFill>
        <p:spPr>
          <a:xfrm>
            <a:off x="5867280" y="2637000"/>
            <a:ext cx="2500560" cy="187164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13"/>
          <p:cNvSpPr/>
          <p:nvPr/>
        </p:nvSpPr>
        <p:spPr>
          <a:xfrm flipH="1">
            <a:off x="4715640" y="155736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крытосеменн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F:\Урок Блиновой Е.А\колокольчики.jpg"/>
          <p:cNvPicPr/>
          <p:nvPr/>
        </p:nvPicPr>
        <p:blipFill>
          <a:blip r:embed="rId3"/>
          <a:stretch/>
        </p:blipFill>
        <p:spPr>
          <a:xfrm>
            <a:off x="5867280" y="4941720"/>
            <a:ext cx="2589480" cy="1636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http://el-ab.ru/foto8.png?i=44417&amp;k=paporotniki-komnatnie-vidi-s-foto"/>
          <p:cNvPicPr/>
          <p:nvPr/>
        </p:nvPicPr>
        <p:blipFill>
          <a:blip r:embed="rId4"/>
          <a:stretch/>
        </p:blipFill>
        <p:spPr>
          <a:xfrm>
            <a:off x="1403280" y="1700280"/>
            <a:ext cx="2373480" cy="1779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http://1.bp.blogspot.com/_ZTRqwEJLlu4/TQaUcH6IIAI/AAAAAAAAABw/WOADHxDYSVM/s1600/rockcap+moss+%2528dicranum%2529+on+large+boulder+at+Moss++Acres+location.jpg"/>
          <p:cNvPicPr/>
          <p:nvPr/>
        </p:nvPicPr>
        <p:blipFill>
          <a:blip r:embed="rId5"/>
          <a:stretch/>
        </p:blipFill>
        <p:spPr>
          <a:xfrm>
            <a:off x="2627280" y="3716280"/>
            <a:ext cx="1873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F:\Урок Блиновой Е.А\16.jpg"/>
          <p:cNvPicPr/>
          <p:nvPr/>
        </p:nvPicPr>
        <p:blipFill>
          <a:blip r:embed="rId1"/>
          <a:stretch/>
        </p:blipFill>
        <p:spPr>
          <a:xfrm>
            <a:off x="1042920" y="260280"/>
            <a:ext cx="4518000" cy="3384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F:\Урок Блиновой Е.А\17.jpg"/>
          <p:cNvPicPr/>
          <p:nvPr/>
        </p:nvPicPr>
        <p:blipFill>
          <a:blip r:embed="rId2"/>
          <a:stretch/>
        </p:blipFill>
        <p:spPr>
          <a:xfrm>
            <a:off x="3995640" y="2581200"/>
            <a:ext cx="47577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5" descr="цветок"/>
          <p:cNvPicPr/>
          <p:nvPr/>
        </p:nvPicPr>
        <p:blipFill>
          <a:blip r:embed="rId1"/>
          <a:stretch/>
        </p:blipFill>
        <p:spPr>
          <a:xfrm>
            <a:off x="1692360" y="1341360"/>
            <a:ext cx="4699080" cy="525636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8"/>
          <p:cNvSpPr/>
          <p:nvPr/>
        </p:nvSpPr>
        <p:spPr>
          <a:xfrm>
            <a:off x="6084720" y="306864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пе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9"/>
          <p:cNvSpPr/>
          <p:nvPr/>
        </p:nvSpPr>
        <p:spPr>
          <a:xfrm>
            <a:off x="6084720" y="3068640"/>
            <a:ext cx="2376720" cy="577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6083280" y="3068640"/>
            <a:ext cx="237636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1"/>
          <p:cNvSpPr/>
          <p:nvPr/>
        </p:nvSpPr>
        <p:spPr>
          <a:xfrm>
            <a:off x="108000" y="292428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2"/>
          <p:cNvSpPr/>
          <p:nvPr/>
        </p:nvSpPr>
        <p:spPr>
          <a:xfrm>
            <a:off x="108000" y="292428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108000" y="2924280"/>
            <a:ext cx="237636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250920" y="4941720"/>
            <a:ext cx="2376360" cy="503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л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250920" y="4940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6"/>
          <p:cNvSpPr/>
          <p:nvPr/>
        </p:nvSpPr>
        <p:spPr>
          <a:xfrm>
            <a:off x="250920" y="4940280"/>
            <a:ext cx="237636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7"/>
          <p:cNvSpPr/>
          <p:nvPr/>
        </p:nvSpPr>
        <p:spPr>
          <a:xfrm>
            <a:off x="5724360" y="5803920"/>
            <a:ext cx="2376720" cy="504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н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>
            <a:off x="5724360" y="5803920"/>
            <a:ext cx="2376720" cy="504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9"/>
          <p:cNvSpPr/>
          <p:nvPr/>
        </p:nvSpPr>
        <p:spPr>
          <a:xfrm>
            <a:off x="5724360" y="5803920"/>
            <a:ext cx="237672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0"/>
          <p:cNvSpPr/>
          <p:nvPr/>
        </p:nvSpPr>
        <p:spPr>
          <a:xfrm>
            <a:off x="5796000" y="46530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шели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>
            <a:off x="5796000" y="4653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5796000" y="4653000"/>
            <a:ext cx="244800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6"/>
          <p:cNvSpPr/>
          <p:nvPr/>
        </p:nvSpPr>
        <p:spPr>
          <a:xfrm>
            <a:off x="6156360" y="3933720"/>
            <a:ext cx="2376360" cy="50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7"/>
          <p:cNvSpPr/>
          <p:nvPr/>
        </p:nvSpPr>
        <p:spPr>
          <a:xfrm>
            <a:off x="6156360" y="3933720"/>
            <a:ext cx="2376360" cy="50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/>
          <p:cNvSpPr/>
          <p:nvPr/>
        </p:nvSpPr>
        <p:spPr>
          <a:xfrm>
            <a:off x="6156360" y="3933720"/>
            <a:ext cx="2376360" cy="50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троение цвет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троение завязи пести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5" name="Picture 2" descr="C:\Users\Юлия\Desktop\егэ 2013\Рисунок3.jpg"/>
          <p:cNvPicPr/>
          <p:nvPr/>
        </p:nvPicPr>
        <p:blipFill>
          <a:blip r:embed="rId1"/>
          <a:stretch/>
        </p:blipFill>
        <p:spPr>
          <a:xfrm>
            <a:off x="971640" y="1230480"/>
            <a:ext cx="792144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5" descr="пыльник"/>
          <p:cNvPicPr/>
          <p:nvPr/>
        </p:nvPicPr>
        <p:blipFill>
          <a:blip r:embed="rId1"/>
          <a:stretch/>
        </p:blipFill>
        <p:spPr>
          <a:xfrm>
            <a:off x="2340000" y="1700280"/>
            <a:ext cx="1893960" cy="5983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7" descr="тычиночная нить"/>
          <p:cNvPicPr/>
          <p:nvPr/>
        </p:nvPicPr>
        <p:blipFill>
          <a:blip r:embed="rId2"/>
          <a:stretch/>
        </p:blipFill>
        <p:spPr>
          <a:xfrm>
            <a:off x="2340000" y="3789360"/>
            <a:ext cx="2103480" cy="7430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218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Главные части цвет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Тычинка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9" name="Picture 3" descr="тычинка"/>
          <p:cNvPicPr/>
          <p:nvPr/>
        </p:nvPicPr>
        <p:blipFill>
          <a:blip r:embed="rId3"/>
          <a:stretch/>
        </p:blipFill>
        <p:spPr>
          <a:xfrm>
            <a:off x="1042920" y="1484280"/>
            <a:ext cx="965160" cy="3166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2"/>
          <p:cNvPicPr/>
          <p:nvPr/>
        </p:nvPicPr>
        <p:blipFill>
          <a:blip r:embed="rId4"/>
          <a:stretch/>
        </p:blipFill>
        <p:spPr>
          <a:xfrm>
            <a:off x="2340000" y="3860640"/>
            <a:ext cx="2087640" cy="649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прямоуг2"/>
          <p:cNvPicPr/>
          <p:nvPr/>
        </p:nvPicPr>
        <p:blipFill>
          <a:blip r:embed="rId5"/>
          <a:stretch/>
        </p:blipFill>
        <p:spPr>
          <a:xfrm>
            <a:off x="2340000" y="3860640"/>
            <a:ext cx="2089080" cy="648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8"/>
          <p:cNvSpPr/>
          <p:nvPr/>
        </p:nvSpPr>
        <p:spPr>
          <a:xfrm>
            <a:off x="2340000" y="170028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прямоуг1"/>
          <p:cNvPicPr/>
          <p:nvPr/>
        </p:nvPicPr>
        <p:blipFill>
          <a:blip r:embed="rId6"/>
          <a:stretch/>
        </p:blipFill>
        <p:spPr>
          <a:xfrm>
            <a:off x="2340000" y="1700280"/>
            <a:ext cx="1893960" cy="598320"/>
          </a:xfrm>
          <a:prstGeom prst="rect">
            <a:avLst/>
          </a:prstGeom>
          <a:ln w="0">
            <a:noFill/>
          </a:ln>
        </p:spPr>
      </p:pic>
      <p:sp>
        <p:nvSpPr>
          <p:cNvPr id="354" name="Line 38"/>
          <p:cNvSpPr/>
          <p:nvPr/>
        </p:nvSpPr>
        <p:spPr>
          <a:xfrm>
            <a:off x="1187280" y="429264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9"/>
          <p:cNvSpPr/>
          <p:nvPr/>
        </p:nvSpPr>
        <p:spPr>
          <a:xfrm>
            <a:off x="1763640" y="1916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5492880" y="1719360"/>
            <a:ext cx="282024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пыль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сперм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5639040" y="3664080"/>
            <a:ext cx="227916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2"/>
          <p:cNvSpPr/>
          <p:nvPr/>
        </p:nvSpPr>
        <p:spPr>
          <a:xfrm>
            <a:off x="5148360" y="1484280"/>
            <a:ext cx="345600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Главные части цвет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естик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0" name="Picture 5" descr="пестик"/>
          <p:cNvPicPr/>
          <p:nvPr/>
        </p:nvPicPr>
        <p:blipFill>
          <a:blip r:embed="rId1"/>
          <a:stretch/>
        </p:blipFill>
        <p:spPr>
          <a:xfrm>
            <a:off x="1332000" y="1628640"/>
            <a:ext cx="796680" cy="4321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1"/>
          <p:cNvSpPr/>
          <p:nvPr/>
        </p:nvSpPr>
        <p:spPr>
          <a:xfrm>
            <a:off x="5082480" y="4797360"/>
            <a:ext cx="33429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Восприятие пыль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5082120" y="1700280"/>
            <a:ext cx="321516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Поднимает ры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околоцвет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5082120" y="3284640"/>
            <a:ext cx="3753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одержит семязач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0" descr="завязь"/>
          <p:cNvPicPr/>
          <p:nvPr/>
        </p:nvPicPr>
        <p:blipFill>
          <a:blip r:embed="rId2"/>
          <a:stretch/>
        </p:blipFill>
        <p:spPr>
          <a:xfrm>
            <a:off x="2340000" y="4221000"/>
            <a:ext cx="1895400" cy="598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1" descr="столбик"/>
          <p:cNvPicPr/>
          <p:nvPr/>
        </p:nvPicPr>
        <p:blipFill>
          <a:blip r:embed="rId3"/>
          <a:stretch/>
        </p:blipFill>
        <p:spPr>
          <a:xfrm>
            <a:off x="2340000" y="2781360"/>
            <a:ext cx="1895400" cy="598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2" descr="рыльце"/>
          <p:cNvPicPr/>
          <p:nvPr/>
        </p:nvPicPr>
        <p:blipFill>
          <a:blip r:embed="rId4"/>
          <a:stretch/>
        </p:blipFill>
        <p:spPr>
          <a:xfrm>
            <a:off x="2340000" y="1628640"/>
            <a:ext cx="1895400" cy="598680"/>
          </a:xfrm>
          <a:prstGeom prst="rect">
            <a:avLst/>
          </a:prstGeom>
          <a:ln w="0">
            <a:noFill/>
          </a:ln>
        </p:spPr>
      </p:pic>
      <p:sp>
        <p:nvSpPr>
          <p:cNvPr id="367" name="Line 23"/>
          <p:cNvSpPr/>
          <p:nvPr/>
        </p:nvSpPr>
        <p:spPr>
          <a:xfrm>
            <a:off x="1908000" y="4508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1763640" y="29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1908000" y="1773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7"/>
          <p:cNvSpPr/>
          <p:nvPr/>
        </p:nvSpPr>
        <p:spPr>
          <a:xfrm>
            <a:off x="2340000" y="162864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5" descr="прямоуг1"/>
          <p:cNvPicPr/>
          <p:nvPr/>
        </p:nvPicPr>
        <p:blipFill>
          <a:blip r:embed="rId5"/>
          <a:stretch/>
        </p:blipFill>
        <p:spPr>
          <a:xfrm>
            <a:off x="2340000" y="1628640"/>
            <a:ext cx="1893960" cy="598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0" descr="2"/>
          <p:cNvPicPr/>
          <p:nvPr/>
        </p:nvPicPr>
        <p:blipFill>
          <a:blip r:embed="rId6"/>
          <a:stretch/>
        </p:blipFill>
        <p:spPr>
          <a:xfrm>
            <a:off x="2340000" y="2781360"/>
            <a:ext cx="1893960" cy="576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1" descr="33"/>
          <p:cNvPicPr/>
          <p:nvPr/>
        </p:nvPicPr>
        <p:blipFill>
          <a:blip r:embed="rId7"/>
          <a:stretch/>
        </p:blipFill>
        <p:spPr>
          <a:xfrm>
            <a:off x="2340000" y="4221000"/>
            <a:ext cx="1944720" cy="598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9" descr="прямоуг2"/>
          <p:cNvPicPr/>
          <p:nvPr/>
        </p:nvPicPr>
        <p:blipFill>
          <a:blip r:embed="rId8"/>
          <a:stretch/>
        </p:blipFill>
        <p:spPr>
          <a:xfrm>
            <a:off x="2340000" y="2781360"/>
            <a:ext cx="1873080" cy="576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7" descr="прямоуг3"/>
          <p:cNvPicPr/>
          <p:nvPr/>
        </p:nvPicPr>
        <p:blipFill>
          <a:blip r:embed="rId9"/>
          <a:stretch/>
        </p:blipFill>
        <p:spPr>
          <a:xfrm>
            <a:off x="2340000" y="4221000"/>
            <a:ext cx="1944720" cy="598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2"/>
          <p:cNvSpPr/>
          <p:nvPr/>
        </p:nvSpPr>
        <p:spPr>
          <a:xfrm>
            <a:off x="7388280" y="6237360"/>
            <a:ext cx="154152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3"/>
          <p:cNvSpPr/>
          <p:nvPr/>
        </p:nvSpPr>
        <p:spPr>
          <a:xfrm flipH="1">
            <a:off x="4211280" y="2133720"/>
            <a:ext cx="865080" cy="1008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4"/>
          <p:cNvSpPr/>
          <p:nvPr/>
        </p:nvSpPr>
        <p:spPr>
          <a:xfrm flipH="1">
            <a:off x="4284360" y="3573360"/>
            <a:ext cx="718920" cy="7923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5"/>
          <p:cNvSpPr/>
          <p:nvPr/>
        </p:nvSpPr>
        <p:spPr>
          <a:xfrm flipH="1" flipV="1">
            <a:off x="4211280" y="1988640"/>
            <a:ext cx="865080" cy="32403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6"/>
          <p:cNvSpPr/>
          <p:nvPr/>
        </p:nvSpPr>
        <p:spPr>
          <a:xfrm>
            <a:off x="4716360" y="1557360"/>
            <a:ext cx="424836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пестик"/>
          <p:cNvPicPr/>
          <p:nvPr/>
        </p:nvPicPr>
        <p:blipFill>
          <a:blip r:embed="rId10"/>
          <a:stretch/>
        </p:blipFill>
        <p:spPr>
          <a:xfrm>
            <a:off x="1332000" y="1628640"/>
            <a:ext cx="796680" cy="43214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http://festival.1september.ru/articles/660329/Image4516.gif"/>
          <p:cNvPicPr/>
          <p:nvPr/>
        </p:nvPicPr>
        <p:blipFill>
          <a:blip r:embed="rId11"/>
          <a:stretch/>
        </p:blipFill>
        <p:spPr>
          <a:xfrm>
            <a:off x="0" y="457200"/>
            <a:ext cx="162000" cy="2570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9"/>
          <p:cNvSpPr/>
          <p:nvPr/>
        </p:nvSpPr>
        <p:spPr>
          <a:xfrm>
            <a:off x="0" y="3051360"/>
            <a:ext cx="37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3:33:51Z</dcterms:created>
  <dc:creator>UserXP</dc:creator>
  <dc:description/>
  <dc:language>en-US</dc:language>
  <cp:lastModifiedBy>user</cp:lastModifiedBy>
  <dcterms:modified xsi:type="dcterms:W3CDTF">2017-12-12T20:35:25Z</dcterms:modified>
  <cp:revision>192</cp:revision>
  <dc:subject/>
  <dc:title>Слайд 1</dc:title>
</cp:coreProperties>
</file>